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82E3-8C9E-40AE-8997-4D4CF7861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C42A-30BD-4AE4-9079-F7D106CC6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BD8D-9411-449E-AA59-DAB6C3A91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5E5D-232F-4198-A084-40F3DB2A7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59401-28C3-4057-AB5C-2BB4B2FF3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97FC9-ECAD-4190-8B03-3F3500AE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89448-718D-446D-83DE-D1A4DB83A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27944-D1CF-4B4C-A92C-3EDA7F06A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B463-ADED-4D09-A699-BEE39670C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C4ED-1576-4AD1-AA5D-72ED08CE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6C01-1E52-4948-9FBE-F91F52C5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16E6-E0C3-478E-90D5-CCCD6163E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140F-DCAF-485F-82A5-1362A1EA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3C08-6AA3-4621-9497-3927F3457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26A9-D649-46B5-9C51-3960ADC3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C7C8-A582-4DBF-A432-B2AD658C2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D681-7D2D-481F-9580-2C5099B7488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ED0E-8245-4424-8300-9A6FDD4AB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dwheeler.com/essays/filenames-in-shell.html" TargetMode="External"/><Relationship Id="rId2" Type="http://schemas.openxmlformats.org/officeDocument/2006/relationships/hyperlink" Target="http://www.dwheeler.com/essays/fixing-unix-linux-filenames.html"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5: Calling Out to Other Component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4-09-2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Query: Intent &amp; Actual</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nt of programmer is to creat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user_inpu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ine attacker provides, as input valu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me' OR 'a'='a</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ing query is:</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name' OR 'a'='a'</a:t>
            </a:r>
            <a:endParaRPr b="0" lang="en-US" sz="24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part always true, so whole table returned</a:t>
            </a:r>
            <a:endParaRPr b="0" lang="en-US" sz="32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quote is a SQL metacharacter</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216E-5ED6-4F69-BD66-58648CCBE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QL injection = attack w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ttacker inserts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will eventually be supplied to a SQL interpre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way where that data will be misinterpreted (e.g. as a metacharac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input example, name' OR 'a'='a, is an example of a SQL injection attack</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3E86-F992-4397-A740-631E6E16C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 Other common attack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ssive variation in SQL interpret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ndard” is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s vary depending on interpret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sequences in SQL injection attack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double quote (as already se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and separator</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rt whole new commands after separator</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ent toke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y “ignore material afterwards” &amp; foil limiting text</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don’t try to create a blacklist</a:t>
            </a:r>
            <a:endParaRPr b="0" lang="en-US" sz="30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BD5D-D057-45C4-92E6-A5FE885FBA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for SQL Injection: Prepared stateme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repared statement” to identify placehold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existing library then escapes it properl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does the escaping for you – simpler, more likely to get righ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produce easier-to-maintain cod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execute fas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important for SQL – different SQL engines can have different rules</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E87D-79E9-4F69-B66B-31449B646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repareStatement” method</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interface “Connection” represents a connection (session) with a specific databas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tements executed &amp; results are returned within context of a connecti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method  PreparedStatement prepareStatement(String sql) throws SQLException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a PreparedStatement object for sending parameterized SQL statements to the databa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ql” is an SQL statement that may contain one or more '?' IN parameter placeholders</a:t>
            </a:r>
            <a:endParaRPr b="0" lang="en-US" sz="26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DD95-3430-485D-A089-BC26140CA3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pared statements example (Java)</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ng QueryString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ect * from authors where lastname =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edStatement pstmt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nection.prepareStatement(QueryString);</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et first param - library escapes it</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tmt.setString(1, search_lastname);</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et results = pstmt.execute( );</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C82B-0DCA-47C6-85E6-C8E5AB3D0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ning: “prepareStatement” can be misused, too!!</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d statements only work if </a:t>
            </a:r>
            <a:r>
              <a:rPr b="0" lang="en-US" sz="2800" spc="-1" strike="noStrike" u="sng">
                <a:solidFill>
                  <a:srgbClr val="000000"/>
                </a:solidFill>
                <a:uFillTx/>
                <a:latin typeface="Calibri"/>
              </a:rPr>
              <a:t>all input influenced by untrusted users</a:t>
            </a:r>
            <a:r>
              <a:rPr b="0" lang="en-US" sz="2800" spc="-1" strike="noStrike">
                <a:solidFill>
                  <a:srgbClr val="000000"/>
                </a:solidFill>
                <a:latin typeface="Calibri"/>
              </a:rPr>
              <a:t> is </a:t>
            </a:r>
            <a:r>
              <a:rPr b="0" i="1" lang="en-US" sz="2800" spc="-1" strike="noStrike">
                <a:solidFill>
                  <a:srgbClr val="000000"/>
                </a:solidFill>
                <a:latin typeface="Calibri"/>
              </a:rPr>
              <a:t>actually</a:t>
            </a:r>
            <a:r>
              <a:rPr b="0" lang="en-US" sz="2800" spc="-1" strike="noStrike">
                <a:solidFill>
                  <a:srgbClr val="000000"/>
                </a:solidFill>
                <a:latin typeface="Calibri"/>
              </a:rPr>
              <a:t> prepar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substituted as “?” in query string &amp; setStr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on’t</a:t>
            </a:r>
            <a:r>
              <a:rPr b="0" lang="en-US" sz="2800" spc="-1" strike="noStrike">
                <a:solidFill>
                  <a:srgbClr val="000000"/>
                </a:solidFill>
                <a:latin typeface="Calibri"/>
              </a:rPr>
              <a:t> do this (where search_lastname is untrusted):</a:t>
            </a: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ng QueryString = "select * from authors where 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arch_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edStatement pstmt = connection.prepareStatement(QueryString);</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et results = pstmt.execute( );</a:t>
            </a:r>
            <a:endParaRPr b="0" lang="en-US" sz="20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54C1-DCDD-4792-8848-4AFC260021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4"/>
          <p:cNvSpPr/>
          <p:nvPr/>
        </p:nvSpPr>
        <p:spPr>
          <a:xfrm>
            <a:off x="685800" y="533412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 using prepared statements, so nothing can go wro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go wrong … can go wro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QL injection countermeasur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ing your own escape code</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careful – identify characters that must not or don’t need escaping (e.g., alphanumerics) &amp; escape everything else (</a:t>
            </a:r>
            <a:r>
              <a:rPr b="0" i="1" lang="en-US" sz="2000" spc="-1" strike="noStrike">
                <a:solidFill>
                  <a:srgbClr val="000000"/>
                </a:solidFill>
                <a:latin typeface="Calibri"/>
              </a:rPr>
              <a:t>whitelist</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les vary depending on SQL engine &amp; its version</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do this with SQL – use libraries designed for purpose!</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red procedures – can help prevent SQL injection attack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imiting types of statements that can be passed to their parameter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attackers can often work around those limit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prevent some attacks, but by themselves they don’t counter SQL injection (you still have to escape, etc.)</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metacharacters from getting in as inpu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 do it.  “Only ASCII alphanumerics” is okay</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is is not always practical</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when you can, use prepared statements for defense-in-depth</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so – future modifications may need to lift input restrictions</a:t>
            </a:r>
            <a:endParaRPr b="0" lang="en-US" sz="17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E922-0036-4C30-8E2F-DF3522BDD0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just SQL</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database systems (SQL or not) support languag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for quer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need to prevent metacharacter misinterpret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prepared statement library if you ca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ne available, consider creating o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create escaping library - easily check &amp; reus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also show up in the command shell…</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3D49-92D0-4F98-BD61-5D9FC70FE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shell</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st systems have at least one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eful for quickly combining programs, query, debugging, etc.</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ix-like systems: e.g., /bin/sh, bash, dash, ksh, csh</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e.g., cmd.exe, PowerShell</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mand shell idea originally from MULTICS (1960s)</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Many</a:t>
            </a:r>
            <a:r>
              <a:rPr b="0" lang="en-US" sz="1900" spc="-1" strike="noStrike">
                <a:solidFill>
                  <a:srgbClr val="000000"/>
                </a:solidFill>
                <a:latin typeface="Calibri"/>
              </a:rPr>
              <a:t> metacharacters, and shell can call other command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ful… but easy to make mistakes</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nly use when you really need its capability &amp; be cautious doing so</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veral library calls may call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ystem(3), popen(3); sometimes execlp(3) and execvp(3)</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erl &amp; shell backtick (`); Python os.system()</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va java.lang.Runtime.getRuntime().exec() </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C, execve(3) does not invoke shell</a:t>
            </a:r>
            <a:endParaRPr b="0" lang="en-US" sz="1500" spc="-1" strike="noStrike">
              <a:solidFill>
                <a:srgbClr val="000000"/>
              </a:solidFill>
              <a:latin typeface="Calibri"/>
            </a:endParaRPr>
          </a:p>
          <a:p>
            <a:pPr lvl="2" marL="1143000" indent="-228600">
              <a:lnSpc>
                <a:spcPct val="9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e execve(3), not system(3), if you don’t need full system(3) functionality</a:t>
            </a:r>
            <a:endParaRPr b="0" lang="en-US" sz="13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ny programs have mechanisms to invoke commands too</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il, vi, vim, emacs, ….</a:t>
            </a:r>
            <a:endParaRPr b="0" lang="en-US" sz="15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149F-BB8E-45AD-A988-27175AA1FF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metacharacters &amp; issue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he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na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s</a:t>
            </a:r>
            <a:endParaRPr b="0" lang="en-US" sz="28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26C5-1F5F-47F4-912E-4DD07B89B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shell metacharacter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ell metacharacter list is long; one list is:</a:t>
            </a:r>
            <a:endParaRPr b="0" lang="en-US" sz="2700" spc="-1" strike="noStrike">
              <a:solidFill>
                <a:srgbClr val="000000"/>
              </a:solidFill>
              <a:latin typeface="Calibri"/>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 ; ` ' \ " | * ? ~ &lt; &gt; ^ ( ) [ ] { } $ \n \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et that list is known to be wrong, e.g.:</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amp; tab: normal separato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comment (all rest on line ignored)</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ns “not” in some contexts &amp; history in othe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 on parameter may be considered optio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telist – escape non-alphanumeric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ther commands have own character set and may need to escape through shell too</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pe in right order, so that it’s actually escap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326B-CFA2-4312-8183-47467B4E0E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1) – Unix-lik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SAMATE 1596 - CWE-077: Failure to Sanitize Data into a Control Plane (Command Injection) at line 44,45</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scription: Tainted input allows command execu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Keywords: Port Java Size0 Complex0 Taint Unsaf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validParam: "user=bogus;ls -l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ValidParam: user=ro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Copyright 2005 Fortify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ermission is hereby granted, without written agreement or royalty fee, t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copy, modify, and distribute this software and its documentation f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ny purpose, provided that the above copyright notice and the following</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ree paragraphs appear in all copies of this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 NO EVENT SHALL FORTIFY SOFTWARE BE LIABLE TO ANY PARTY FOR DIREC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DIRECT, SPECIAL, INCIDENTAL, OR CONSEQUENTIAL DAMAGES ARISING OUT OF TH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OF THIS SOFTWARE AND ITS DOCUMENTATION, EVEN IF FORTIFY SOFTWARE H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BEEN ADVISED OF THE POSSIBILITY OF SUCH DAMANG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FORTIFY SOFTWARE SPECIFICALLY DISCLAIMS ANY WARRANTIES INCLUDING, BUT N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LIMITED TO THE IMPLIED WARRANTIES OF MERCHANTABILITY, FITNESS FOR 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ARTICULAR PURPOSE, AND NON-INFRINGEMEN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E SOFTWARE IS PROVIDED ON AN "AS-IS" BASIS AND FORTIFY SOFTWARE HAS N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OBLIGATION TO PROVIDE MAINTENANCE, SUPPORT, UPDATES, ENHANCEMENTS, 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MODIFICATIO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9084-A557-4320-8491-38F3121AE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2) – Unix-lik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lang.Runtim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i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http.*;</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class Proc1_bad extends Http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void doGet(HttpServletRequest req, HttpServletResponse r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rows ServletException, IOExcept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s.setContentType("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rvletOutputStream out = res.getOutputStrea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ut.println("&lt;HTML&gt;&lt;HEAD&gt;&lt;TITLE&gt;Test&lt;/TITLE&gt;&lt;/HEAD&gt;&lt;BODY&gt;&lt;blockquote&gt;&lt;pre&gt;");</a:t>
            </a:r>
            <a:endParaRPr b="0" lang="en-US" sz="20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9EF7-736F-4E53-87E6-F61D1B5B8B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3) – Unix-like</a:t>
            </a:r>
            <a:endParaRPr b="0" lang="en-US" sz="4400" spc="-1" strike="noStrike">
              <a:solidFill>
                <a:srgbClr val="000000"/>
              </a:solidFill>
              <a:latin typeface="Calibri"/>
            </a:endParaRPr>
          </a:p>
        </p:txBody>
      </p:sp>
      <p:sp>
        <p:nvSpPr>
          <p:cNvPr id="118" name=""/>
          <p:cNvSpPr txBox="1"/>
          <p:nvPr/>
        </p:nvSpPr>
        <p:spPr>
          <a:xfrm>
            <a:off x="457200" y="1295280"/>
            <a:ext cx="8229600" cy="4525920"/>
          </a:xfrm>
          <a:prstGeom prst="rect">
            <a:avLst/>
          </a:prstGeom>
          <a:noFill/>
          <a:ln w="0">
            <a:noFill/>
          </a:ln>
        </p:spPr>
        <p:txBody>
          <a:bodyPr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user = req.getParameter("us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user != nul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r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args = { "/bin/sh", "-c", "finger " + user };   </a:t>
            </a:r>
            <a:r>
              <a:rPr b="1" lang="en-US" sz="1400" spc="-1" strike="noStrike">
                <a:solidFill>
                  <a:srgbClr val="000000"/>
                </a:solidFill>
                <a:latin typeface="Calibri"/>
              </a:rPr>
              <a:t>// Uh oh!!!!</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rocess p = Runtime.getRuntime().exec(args);  </a:t>
            </a:r>
            <a:r>
              <a:rPr b="1" lang="en-US" sz="1400" spc="-1" strike="noStrike">
                <a:solidFill>
                  <a:srgbClr val="000000"/>
                </a:solidFill>
                <a:latin typeface="Calibri"/>
              </a:rPr>
              <a:t>// Disaster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ufferedReader fingdata = new BufferedReader(ne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putStreamReader(p.getInputStrea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ile((line = fingdata.readLine()) != null)</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waitF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catch(Exception 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row new ServletExceptio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else {  out.println("specify a us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t;/pre&gt;&lt;/blockquote&gt;&lt;/BODY&gt;&lt;/HTML&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clo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25E0-21CC-45B5-8388-4BB571184E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bad code on Window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btype = request.getParameter("backuptyp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cmd = new String("cmd.exe /K \"c:\\util\\rmanDB.bat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type + “&amp;&amp;c:\\utl\\cleanup.b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time.getRuntime().exec(cm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7B08-6F94-4D01-98D6-E2642055C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457200" y="388620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ain, data from untrusted user is used, unescaped, as part of larger command – disaster.</a:t>
            </a:r>
            <a:endParaRPr b="0" lang="en-US" sz="2400" spc="-1" strike="noStrike">
              <a:solidFill>
                <a:srgbClr val="000000"/>
              </a:solidFill>
              <a:latin typeface="Arial"/>
            </a:endParaRPr>
          </a:p>
        </p:txBody>
      </p:sp>
      <p:sp>
        <p:nvSpPr>
          <p:cNvPr id="124" name="TextBox 5"/>
          <p:cNvSpPr/>
          <p:nvPr/>
        </p:nvSpPr>
        <p:spPr>
          <a:xfrm>
            <a:off x="498960" y="5867280"/>
            <a:ext cx="80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ecure Programming with Static Analysis”, Chess &amp; West, page 1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data:</a:t>
            </a:r>
            <a:br>
              <a:rPr sz="4400"/>
            </a:br>
            <a:r>
              <a:rPr b="0" lang="en-US" sz="4400" spc="-1" strike="noStrike">
                <a:solidFill>
                  <a:srgbClr val="000000"/>
                </a:solidFill>
                <a:latin typeface="Calibri"/>
              </a:rPr>
              <a:t>Databases &amp; simple file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bases (e.g., SQL) provide many useful func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rbitrary que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 storage of field dat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t using them means that your program depends on potentially-complex DB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 to set up / config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have its own vulnerabilities,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have to include lower-level kernel anyw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simple files work for storage (e.g., with filenames as key), may want to use them for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an</a:t>
            </a:r>
            <a:r>
              <a:rPr b="0" lang="en-US" sz="2200" spc="-1" strike="noStrike">
                <a:solidFill>
                  <a:srgbClr val="000000"/>
                </a:solidFill>
                <a:latin typeface="Calibri"/>
              </a:rPr>
              <a:t> be faster, simpler. Directory structures can simplify mu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not if you start rewriting a DBM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decision (DBMS vs. files), but either involves calling out</a:t>
            </a:r>
            <a:endParaRPr b="0" lang="en-US" sz="2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0329-633C-4943-B58E-923E4631F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data type passed elsewhere: Pathname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 = how to find file system objec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x-like: Sequence of 1+ filenames separated by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s often partly controlled by untrusted us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ful to use file/directory names as a key to identify relevant data, can lead to untrusted user controlling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management of VM/shared system – untrusted monitoree controls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ense-in-depth: Counter attacker who gets in part wa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ed to protect… so need to know about filename issu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 case: Don’t allow redirection outside di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f whitelist allowed “.”, “/”, and maybe “\” – probl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rusted_root_path + username” might go somewhere unexpected if username is “../../../mysecre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lways, use limited whitelist for info used to create filenames</a:t>
            </a:r>
            <a:endParaRPr b="0" lang="en-US" sz="20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408C-EE22-41DB-8ABE-CB1AF06E28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 Pathnames:</a:t>
            </a:r>
            <a:br>
              <a:rPr sz="4400"/>
            </a:br>
            <a:r>
              <a:rPr b="0" lang="en-US" sz="4400" spc="-1" strike="noStrike">
                <a:solidFill>
                  <a:srgbClr val="000000"/>
                </a:solidFill>
                <a:latin typeface="Calibri"/>
              </a:rPr>
              <a:t>Difficult to make secur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pathname interpretations vary depending 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sion of Window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I used (some use CreateFile, support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letter</a:t>
            </a:r>
            <a:r>
              <a:rPr b="0" lang="en-US" sz="2000" spc="-1" strike="noStrike">
                <a:solidFill>
                  <a:srgbClr val="000000"/>
                </a:solidFill>
                <a:latin typeface="Calibri"/>
              </a:rPr>
              <a:t>:…” and “\\</a:t>
            </a:r>
            <a:r>
              <a:rPr b="0" i="1" lang="en-US" sz="2000" spc="-1" strike="noStrike">
                <a:solidFill>
                  <a:srgbClr val="000000"/>
                </a:solidFill>
                <a:latin typeface="Calibri"/>
              </a:rPr>
              <a:t>server</a:t>
            </a:r>
            <a:r>
              <a:rPr b="0" lang="en-US" sz="2000" spc="-1" strike="noStrike">
                <a:solidFill>
                  <a:srgbClr val="000000"/>
                </a:solidFill>
                <a:latin typeface="Calibri"/>
              </a:rPr>
              <a:t>\</a:t>
            </a:r>
            <a:r>
              <a:rPr b="0" i="1" lang="en-US" sz="2000" spc="-1" strike="noStrike">
                <a:solidFill>
                  <a:srgbClr val="000000"/>
                </a:solidFill>
                <a:latin typeface="Calibri"/>
              </a:rPr>
              <a:t>share</a:t>
            </a:r>
            <a:r>
              <a:rPr b="0" lang="en-US" sz="2000" spc="-1" strike="noStrike">
                <a:solidFill>
                  <a:srgbClr val="000000"/>
                </a:solidFill>
                <a:latin typeface="Calibri"/>
              </a:rPr>
              <a:t>...” have special mean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sty issue: reserved names in fil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t-in reserved device names: CON, PRN, AUX, NUL, COM1, COM2, COM3, COM4, COM5, COM6, COM7, COM8, COM9, LPT1, LPT2, LPT3, LPT4, LPT5, LPT6, LPT7, LPT8, and LPT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orse, drivers can create more reserved name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reserved names with/without extension.. if attacker can trick into reading/writing (e.g., com1.txt), may (depending on API) cause r/w to </a:t>
            </a:r>
            <a:r>
              <a:rPr b="0" i="1" lang="en-US" sz="1800" spc="-1" strike="noStrike">
                <a:solidFill>
                  <a:srgbClr val="000000"/>
                </a:solidFill>
                <a:latin typeface="Calibri"/>
              </a:rPr>
              <a:t>de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case, </a:t>
            </a:r>
            <a:r>
              <a:rPr b="0" i="1" lang="en-US" sz="1800" spc="-1" strike="noStrike">
                <a:solidFill>
                  <a:srgbClr val="000000"/>
                </a:solidFill>
                <a:latin typeface="Calibri"/>
              </a:rPr>
              <a:t>even simple alphanumerics</a:t>
            </a:r>
            <a:r>
              <a:rPr b="0" lang="en-US" sz="1800" spc="-1" strike="noStrike">
                <a:solidFill>
                  <a:srgbClr val="000000"/>
                </a:solidFill>
                <a:latin typeface="Calibri"/>
              </a:rPr>
              <a:t> can cause disaster (rare situ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y separator \ and / (\ widely used for escap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end a file or directory name with space or perio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lying file system may support, but Windows shell &amp; user interface don’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 http://msdn.microsoft.com/en-us/library/aa365247.aspx</a:t>
            </a:r>
            <a:endParaRPr b="0" lang="en-US" sz="20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15B0-E02F-4B59-9D38-164EC2E8CD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filename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ix-like systems in practice allow almost any sequence of bytes as a pathnam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parated by “/”, terminated by \0</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se sensitive (normal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yes, they allow problematic filenames wit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characters (including tab, newline, escap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characters (e.g., non-UTF-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ing “-” (option marke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atic filenames can cause trouble la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additional problem happen when using shel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lename problems </a:t>
            </a:r>
            <a:r>
              <a:rPr b="0" i="1" lang="en-US" sz="2200" spc="-1" strike="noStrike" u="sng">
                <a:solidFill>
                  <a:srgbClr val="000000"/>
                </a:solidFill>
                <a:uFillTx/>
                <a:latin typeface="Calibri"/>
              </a:rPr>
              <a:t>not limited to shell</a:t>
            </a:r>
            <a:endParaRPr b="0" lang="en-US" sz="22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5814-75BE-45F8-A12C-47300AFB0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POSIX shell specific issue: Variable quoting</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Bourne) shell references need to be quoted if variable can include input separator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arators are space, tab, newline by defaul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this is usually wrong:</a:t>
            </a:r>
            <a:endParaRPr b="0" lang="en-US" sz="22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ename might include space, tab, or newline, it will be split into multiple filenam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if you use a Bourne shell to process filena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quote variable references unless </a:t>
            </a:r>
            <a:r>
              <a:rPr b="0" i="1" lang="en-US" sz="2000" spc="-1" strike="noStrike">
                <a:solidFill>
                  <a:srgbClr val="000000"/>
                </a:solidFill>
                <a:latin typeface="Calibri"/>
              </a:rPr>
              <a:t>known</a:t>
            </a:r>
            <a:r>
              <a:rPr b="0" lang="en-US" sz="2000" spc="-1" strike="noStrike">
                <a:solidFill>
                  <a:srgbClr val="000000"/>
                </a:solidFill>
                <a:latin typeface="Calibri"/>
              </a:rPr>
              <a:t> the variable </a:t>
            </a:r>
            <a:r>
              <a:rPr b="0" i="1" lang="en-US" sz="2000" spc="-1" strike="noStrike">
                <a:solidFill>
                  <a:srgbClr val="000000"/>
                </a:solidFill>
                <a:latin typeface="Calibri"/>
              </a:rPr>
              <a:t>cannot</a:t>
            </a:r>
            <a:r>
              <a:rPr b="0" lang="en-US" sz="2000" spc="-1" strike="noStrike">
                <a:solidFill>
                  <a:srgbClr val="000000"/>
                </a:solidFill>
                <a:latin typeface="Calibri"/>
              </a:rPr>
              <a:t> have the space, tab, or newline characters:</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IFS to just newline &amp; tab (no space) early on, e.g.:</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FS="$(printf '\n\t')"</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both if can (defense-in-depth); IFS change may require other changes</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7DA5-26E2-45C4-B4A0-26C522FC77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Man (or Program) is an Island</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actically no program is truly self-contai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arly all programs depend on/call out to other programs for resourc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ng system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ftware Libra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 serv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te services (DNS, web servers, tile server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times dependency is not obvio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itive dependency (A depends on B depends on C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s to dependencies on many components/hidden infrastruct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dynamic libraries, kernel modules, language run-times, C run-time, remote webserver operating systems, etc.</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031C-9494-4632-B027-33078A8BE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one-directory)</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1:</a:t>
            </a:r>
            <a:endParaRPr b="0" lang="en-US" sz="3000" spc="-1" strike="noStrike">
              <a:solidFill>
                <a:srgbClr val="000000"/>
              </a:solidFill>
              <a:latin typeface="Calibri"/>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at * &gt; ../collection  # WRONG</a:t>
            </a:r>
            <a:endParaRPr b="0" lang="en-US" sz="22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a filename begins with “-” (e.g., “-n”)</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n happen in </a:t>
            </a:r>
            <a:r>
              <a:rPr b="0" i="1" lang="en-US" sz="2600" spc="-1" strike="noStrike">
                <a:solidFill>
                  <a:srgbClr val="000000"/>
                </a:solidFill>
                <a:latin typeface="Calibri"/>
              </a:rPr>
              <a:t>any</a:t>
            </a:r>
            <a:r>
              <a:rPr b="0" lang="en-US" sz="2600" spc="-1" strike="noStrike">
                <a:solidFill>
                  <a:srgbClr val="000000"/>
                </a:solidFill>
                <a:latin typeface="Calibri"/>
              </a:rPr>
              <a:t> languag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2:</a:t>
            </a:r>
            <a:endParaRPr b="0" lang="en-US" sz="30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for file in * ; do  # WRONG</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cat "$file" &gt;&gt; ../collection</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ne</a:t>
            </a:r>
            <a:endParaRPr b="0" lang="en-US" sz="19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so fails if filename begins with “-”</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no files (will loop on file named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 problem in shell (glob libraries simplify this)</a:t>
            </a:r>
            <a:endParaRPr b="0" lang="en-US" sz="22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01CB-2C49-4063-92BB-1E6B9688A2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X “find” is usual mechanism for walking directorie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matically inserts directory name in front</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ing “-” can’t happen if directory name doesn’t start with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Easy” ways often fail with space, newline, tab (often split up)</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roduced filename contains “*” etc., then when $(…) returns, shell will try to expand using that (“set –f” disables this)</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1:</a:t>
            </a:r>
            <a:endParaRPr b="0" lang="en-US" sz="2000" spc="-1" strike="noStrike">
              <a:solidFill>
                <a:srgbClr val="000000"/>
              </a:solidFill>
              <a:latin typeface="Calibri"/>
            </a:endParaRPr>
          </a:p>
          <a:p>
            <a:pPr lvl="1" marL="735480" indent="-28296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cat $(find . -type f) &gt; ../collection  # WRONG</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s if file contains space, tab, newline</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2:</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br>
              <a:rPr sz="1300"/>
            </a:br>
            <a:r>
              <a:rPr b="0" lang="en-US" sz="1300" spc="-1" strike="noStrike">
                <a:solidFill>
                  <a:srgbClr val="000000"/>
                </a:solidFill>
                <a:latin typeface="Courier New"/>
                <a:ea typeface="Courier New"/>
              </a:rPr>
              <a:t>cat "$file" 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3:</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cat "$file"</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211A-1BBF-43EC-850B-21C7EF9622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4:</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 xargs cat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By default, xargs’ input is parsed, so space characters (as well as newlines) separate arguments, and the backslash, apostrophe, double-quote, and ampersand characters are used for quot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5:</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FS="" read -r filename ; do</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t "$filename"</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ne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Ok if filenames can’t include newline</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filenames can include newline, then any line-at-a-time processing of filenames fails</a:t>
            </a:r>
            <a:endParaRPr b="0" lang="en-US" sz="24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0450-E69B-4373-A669-0A2B18665C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right</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fix all globs/filenames so they cannot begin with "-" when expanded</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 “./” prefix, etc., as needed</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le any filename byte sequen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tab, newline, escape, non-UTF-8</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names are sequences of bytes, </a:t>
            </a:r>
            <a:r>
              <a:rPr b="0" i="1" lang="en-US" sz="2600" spc="-1" strike="noStrike">
                <a:solidFill>
                  <a:srgbClr val="000000"/>
                </a:solidFill>
                <a:latin typeface="Calibri"/>
              </a:rPr>
              <a:t>not</a:t>
            </a:r>
            <a:r>
              <a:rPr b="0" lang="en-US" sz="2600" spc="-1" strike="noStrike">
                <a:solidFill>
                  <a:srgbClr val="000000"/>
                </a:solidFill>
                <a:latin typeface="Calibri"/>
              </a:rPr>
              <a:t> character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ware of </a:t>
            </a:r>
            <a:r>
              <a:rPr b="0" i="1" lang="en-US" sz="3000" spc="-1" strike="noStrike">
                <a:solidFill>
                  <a:srgbClr val="000000"/>
                </a:solidFill>
                <a:latin typeface="Calibri"/>
              </a:rPr>
              <a:t>printing</a:t>
            </a:r>
            <a:r>
              <a:rPr b="0" lang="en-US" sz="3000" spc="-1" strike="noStrike">
                <a:solidFill>
                  <a:srgbClr val="000000"/>
                </a:solidFill>
                <a:latin typeface="Calibri"/>
              </a:rPr>
              <a:t> filename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Escape” control character may control other thing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line/tab/space may separate surprisingl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UTF-8: Unix-like don’t guarantee printabilit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t;” and “&amp;” if output to HTML/XML</a:t>
            </a:r>
            <a:endParaRPr b="0" lang="en-US" sz="2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8140-FF7D-4D9A-9BDB-2BD155A6F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glob use #1</a:t>
            </a:r>
            <a:br>
              <a:rPr sz="4400"/>
            </a:br>
            <a:r>
              <a:rPr b="0" lang="en-US" sz="4400" spc="-1" strike="noStrike">
                <a:solidFill>
                  <a:srgbClr val="000000"/>
                </a:solidFill>
                <a:latin typeface="Calibri"/>
              </a:rPr>
              <a:t>(one directory)</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Prefix glob (do this in any language) with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heck if file exists (more important in shell)</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r file in ./* ; do        # Use "./*", NEVE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 -e "$file" ] ; then  # Prevent empty matc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 "$fi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i</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22CA-1063-473B-8279-505477C87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find use</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ick ways to use find:</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but common find/xargs extensions:</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print0 | xargs -0 COMMAND</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extensions to find/shell (bash ok):</a:t>
            </a:r>
            <a:endParaRPr b="0" lang="en-US" sz="30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 . -print0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ile IFS="" read -r -d "" file ; do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MAND "$file" # Use quoted "$file", not $file</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e</a:t>
            </a:r>
            <a:endParaRPr b="0" lang="en-US" sz="1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38F6-1201-422B-84C6-444882C9E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walking in shell – a simpler alternative, but with a caveat</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IFS doesn’t include space (per above), and filenames </a:t>
            </a:r>
            <a:r>
              <a:rPr b="0" i="1" lang="en-US" sz="3000" spc="-1" strike="noStrike">
                <a:solidFill>
                  <a:srgbClr val="000000"/>
                </a:solidFill>
                <a:latin typeface="Calibri"/>
              </a:rPr>
              <a:t>cannot</a:t>
            </a:r>
            <a:r>
              <a:rPr b="0" lang="en-US" sz="3000" spc="-1" strike="noStrike">
                <a:solidFill>
                  <a:srgbClr val="000000"/>
                </a:solidFill>
                <a:latin typeface="Calibri"/>
              </a:rPr>
              <a:t> include tab/newli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shell patterns like this work just fine:</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 # Need so “*” in filenames not expanded</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do</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file"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r – but only if you can guarantee 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 – try, &amp; skip files with control chars:</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ntrolchars="$(printf '*[\001-\037\177]*')"</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name "$controlchars"')</a:t>
            </a:r>
            <a:endParaRPr b="0" lang="en-US" sz="20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8C85-E24F-4C5E-B139-CB59F14FC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formation on</a:t>
            </a:r>
            <a:br>
              <a:rPr sz="4400"/>
            </a:br>
            <a:r>
              <a:rPr b="0" lang="en-US" sz="4400" spc="-1" strike="noStrike">
                <a:solidFill>
                  <a:srgbClr val="000000"/>
                </a:solidFill>
                <a:latin typeface="Calibri"/>
              </a:rPr>
              <a:t>Unix-like pathnam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lenames and Pathnames in Shell: How to do it correctly”</a:t>
            </a:r>
            <a:br>
              <a:rPr sz="3200"/>
            </a:br>
            <a:r>
              <a:rPr b="0" lang="en-US" sz="2000" spc="-1" strike="noStrike" u="sng">
                <a:solidFill>
                  <a:srgbClr val="002060"/>
                </a:solidFill>
                <a:uFillTx/>
                <a:latin typeface="Calibri"/>
                <a:hlinkClick r:id="rId1"/>
              </a:rPr>
              <a:t>http://www.dwheeler.com/essays/filenames-in-shell.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xing Unix/Linux/POSIX Filenames: Control Characters (such as Newline), Leading Dashes, and Other Problems”</a:t>
            </a:r>
            <a:br>
              <a:rPr sz="3200"/>
            </a:br>
            <a:r>
              <a:rPr b="0" lang="en-US" sz="2000" spc="-1" strike="noStrike" u="sng">
                <a:solidFill>
                  <a:srgbClr val="002060"/>
                </a:solidFill>
                <a:uFillTx/>
                <a:latin typeface="Calibri"/>
                <a:hlinkClick r:id="rId2"/>
              </a:rPr>
              <a:t>http://www.dwheeler.com/essays/fixing-unix-linux-filenames.html</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719A-F8C0-4B07-BEBD-9A9D2CF4B2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specific file content problem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Binary vs. Text file seman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ext” often requires extra translations on input &amp; outpu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text files use the CP/M line-ending convention CR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st other systems/languages use 1-char line-ending (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es, there are rare alternatives (IBM NEL, pre-MacOS-X CR)</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isinterpretation or data corruption</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f translates when it shouldn’t, or doesn’t when it should</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G., \n in C/C++/Java often has to be converted back &amp; forth</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acter encod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nonstandard Windows encodings (e.g., 1252, et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files use a UTF-16-style encoding (byte ord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essing common in Windows apps… yet can easily go wrong</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y programs use Win32 charset detection function IsTextUnicod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pecially bad pre-Vista (“Bush hid the facts” or “this app can break”)</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recent tweaks make less likely, but fundamental problem still there</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ojibake (aka “character salad”)/misinterpretation</a:t>
            </a:r>
            <a:endParaRPr b="0" lang="en-US" sz="1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A780-A977-44E9-A2AE-754A309A2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ut to logging/debugging system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entralize all logging/debugging, use consistently</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ifies analysis (all data in one place)</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es change/reconfiguration</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 </a:t>
            </a:r>
            <a:r>
              <a:rPr b="0" i="1" lang="en-US" sz="2500" spc="-1" strike="noStrike">
                <a:solidFill>
                  <a:srgbClr val="000000"/>
                </a:solidFill>
                <a:latin typeface="Calibri"/>
              </a:rPr>
              <a:t>instead</a:t>
            </a:r>
            <a:r>
              <a:rPr b="0" lang="en-US" sz="2500" spc="-1" strike="noStrike">
                <a:solidFill>
                  <a:srgbClr val="000000"/>
                </a:solidFill>
                <a:latin typeface="Calibri"/>
              </a:rPr>
              <a:t> of revealing problem details to user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 to say there’s a problem, but don’t say too much</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love it when you give them detailed data!</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important successes &amp; failures</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y to reuse existing log system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code, easier to integrate, etc.</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isting ones: log4j, java.util.logging, syslog,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loyments typically want to centralize logs so they can easily combine data from multiple sources,  change how &amp; how much to log, where it’s stored, send to separate protected system, etc.</a:t>
            </a:r>
            <a:endParaRPr b="0" lang="en-US" sz="22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D1EF-4FC9-48DF-B4D9-B9479F4228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careful about what other resources your program trus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trust… and how much?</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send to them (output to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Read</a:t>
            </a:r>
            <a:r>
              <a:rPr b="0" lang="en-US" sz="2600" spc="-1" strike="noStrike">
                <a:solidFill>
                  <a:srgbClr val="000000"/>
                </a:solidFill>
                <a:latin typeface="Calibri"/>
              </a:rPr>
              <a:t> the documentation – what’s allowed/suppor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de/filter as necessary</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send data?</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natives?  Encrypted channel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accept back (input from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much do you trust it?  Maybe check it!</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accept it back, and what happens if it takes too long?</a:t>
            </a:r>
            <a:endParaRPr b="0" lang="en-US" sz="30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0659-2703-4CCA-8A8E-925C4A43E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log</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only useful if important events are recor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all important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ze messages so can configure what gets logged</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9EEA-F1DD-4F11-A42A-82F905A84A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must roll your own logging/debugging system</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rd date/time &amp; sour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rce = machine &amp;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econd accuracy very helpful</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g(category, mess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configuration of:</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actually record (which categor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to send it (file, remote system, et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do on “log full” (Throw away old? New? Stop runn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scape messages</a:t>
            </a: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D3F7-6C8C-423B-A269-E28929E31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debug entries can become security vulnerabiliti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destined for logs may include untrusted user dat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ing debugging systems – which </a:t>
            </a:r>
            <a:r>
              <a:rPr b="0" i="1" lang="en-US" sz="2400" spc="-1" strike="noStrike">
                <a:solidFill>
                  <a:srgbClr val="000000"/>
                </a:solidFill>
                <a:latin typeface="Calibri"/>
              </a:rPr>
              <a:t>will</a:t>
            </a:r>
            <a:r>
              <a:rPr b="0" lang="en-US" sz="2400" spc="-1" strike="noStrike">
                <a:solidFill>
                  <a:srgbClr val="000000"/>
                </a:solidFill>
                <a:latin typeface="Calibri"/>
              </a:rPr>
              <a:t> be used, since operational systems sometimes have problem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may intentionally create data that will create problems later, e.g.:</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sh/take over logging syste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ge log ent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tack on later retrieva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tore ASCII tex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at case, encode all nonprintable chars (esp. control chars) so they’re something else, e.g., URL-encode or \ddd</a:t>
            </a:r>
            <a:endParaRPr b="0" lang="en-US" sz="24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7DC7-72B6-4B0F-927A-9AA210F51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1)</a:t>
            </a:r>
            <a:endParaRPr b="0" lang="en-US" sz="4400" spc="-1" strike="noStrike">
              <a:solidFill>
                <a:srgbClr val="000000"/>
              </a:solidFill>
              <a:latin typeface="Calibri"/>
            </a:endParaRPr>
          </a:p>
        </p:txBody>
      </p:sp>
      <p:sp>
        <p:nvSpPr>
          <p:cNvPr id="180" name=""/>
          <p:cNvSpPr txBox="1"/>
          <p:nvPr/>
        </p:nvSpPr>
        <p:spPr>
          <a:xfrm>
            <a:off x="457200" y="3832200"/>
            <a:ext cx="8229600" cy="2392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user submit “val” value of “twenty-one”, then this entry is logge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4B1C-B3FC-4565-B60B-C3A1F953F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TextBox 4"/>
          <p:cNvSpPr/>
          <p:nvPr/>
        </p:nvSpPr>
        <p:spPr>
          <a:xfrm>
            <a:off x="838080" y="152388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Do not do 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val = request.getParameter("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value = Integer.parseInt(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tch (NumberFormat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g.info("Failed to parse val = " + 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2)</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f attacker submits “val” value of:</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wenty-one%0a%0aINFO:+User+logged+out%3d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the log will falsely recor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User logged out=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y fooling later log view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guy “couldn’t” have done later 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appear things okay or confuse ca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me someone else</a:t>
            </a:r>
            <a:endParaRPr b="0" lang="en-US" sz="28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E7AA-DC15-4803-BFFC-855266CEB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 log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r/w log access by untrusted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give away a lot,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you’re looking at.. and what you 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include sensitive da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usefu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bugging probl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of attack</a:t>
            </a: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928C-B099-45A1-A39B-3E8CFD7BE5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a:t>
            </a:r>
            <a:r>
              <a:rPr b="0" i="1" lang="en-US" sz="4400" spc="-1" strike="noStrike">
                <a:solidFill>
                  <a:srgbClr val="000000"/>
                </a:solidFill>
                <a:latin typeface="Calibri"/>
              </a:rPr>
              <a:t>not</a:t>
            </a:r>
            <a:r>
              <a:rPr b="0" lang="en-US" sz="4400" spc="-1" strike="noStrike">
                <a:solidFill>
                  <a:srgbClr val="000000"/>
                </a:solidFill>
                <a:latin typeface="Calibri"/>
              </a:rPr>
              <a:t> include passwords &amp; other sensitive data in log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s should normally be private, bu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logs will be revealed to oth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ipient or recipient’s later use may be unauthoriz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don’t include passwords &amp; very sensitive data in lo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ware of including data if might include password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URLs don’t include password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must include, log encrypted data (or use salted hash)</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IEEE log data bre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9,979 usernames + plaintext (!) password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ly available on their FTP server for at least one month prior to discovery 2012-09-1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info: http://ieeelog.com/</a:t>
            </a:r>
            <a:endParaRPr b="0" lang="en-US" sz="22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9C5B-9339-4EA6-9760-B53585C77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 attack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isplays simulate long-gone conso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 codes can change color, erase screen, sometimes even send a screen content ba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Merely </a:t>
            </a:r>
            <a:r>
              <a:rPr b="0" i="1" lang="en-US" sz="2600" spc="-1" strike="noStrike">
                <a:solidFill>
                  <a:srgbClr val="000000"/>
                </a:solidFill>
                <a:latin typeface="Calibri"/>
              </a:rPr>
              <a:t>displaying</a:t>
            </a:r>
            <a:r>
              <a:rPr b="0" lang="en-US" sz="2600" spc="-1" strike="noStrike">
                <a:solidFill>
                  <a:srgbClr val="000000"/>
                </a:solidFill>
                <a:latin typeface="Calibri"/>
              </a:rPr>
              <a:t> a filename or file content can cause command execu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ystems store info in HTML/XM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include Javascript, etc., that is executed on displa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encoding data that users/admins might directly display later</a:t>
            </a:r>
            <a:endParaRPr b="0" lang="en-US" sz="30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0C9F-B5EB-484F-880F-22046252D1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Interfaces Intended for Programmer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unwise to invoke a program intended for human interaction (text or GUI)</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s for humans are intentionally rich &amp; often difficult to completely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have “escape hatches” to unintended fun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 programs often try to intuit the “most likely” meaning</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not be what you were expecting</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ker may find a way to exploit this</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there’s a different program/API for other programs’ use; use that instea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don’t invoke ed/vi/emacs for text processing, use sed/awk/per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ilarly, provide an API/programmer interface if sensibl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have GUI that then invokes API (good approach anyway)</a:t>
            </a:r>
            <a:endParaRPr b="0" lang="en-US" sz="20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5ECD-1A34-4358-B738-070216990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All System Call Return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every system call that can return an error cond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system calls require limited system resources, and users can often affect resources in a variety of w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error cannot be handled gracefully, then fail safe</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8EBA-8F7D-44D0-A327-5803B406F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safe library routin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t>
            </a:r>
            <a:r>
              <a:rPr b="0" i="1" lang="en-US" sz="2200" spc="-1" strike="noStrike">
                <a:solidFill>
                  <a:srgbClr val="000000"/>
                </a:solidFill>
                <a:latin typeface="Calibri"/>
              </a:rPr>
              <a:t>want</a:t>
            </a:r>
            <a:r>
              <a:rPr b="0" lang="en-US" sz="2200" spc="-1" strike="noStrike">
                <a:solidFill>
                  <a:srgbClr val="000000"/>
                </a:solidFill>
                <a:latin typeface="Calibri"/>
              </a:rPr>
              <a:t> to reuse librari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eir specifications may not guarantee that they’re 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specification may even guarantee they’re </a:t>
            </a:r>
            <a:r>
              <a:rPr b="0" i="1" lang="en-US" sz="2000" spc="-1" strike="noStrike">
                <a:solidFill>
                  <a:srgbClr val="000000"/>
                </a:solidFill>
                <a:latin typeface="Calibri"/>
              </a:rPr>
              <a:t>in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ation may be insecure on your platform/environme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ly, prefer libraries that guarantee what you w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you can wrap a routine to do what you ne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re possible, test if it provides capabilities you need for secur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test in compilation, installation, and/or start-u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ay sometimes need to re-implement a library if it’s insec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t be sure, re-impl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t’s a pain, but it is your </a:t>
            </a:r>
            <a:r>
              <a:rPr b="0" i="1" lang="en-US" sz="2000" spc="-1" strike="noStrike">
                <a:solidFill>
                  <a:srgbClr val="000000"/>
                </a:solidFill>
                <a:latin typeface="Calibri"/>
              </a:rPr>
              <a:t>users</a:t>
            </a:r>
            <a:r>
              <a:rPr b="0" lang="en-US" sz="2000" spc="-1" strike="noStrike">
                <a:solidFill>
                  <a:srgbClr val="000000"/>
                </a:solidFill>
                <a:latin typeface="Calibri"/>
              </a:rPr>
              <a:t> who are hurt if you choose an insecure libr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a:t>
            </a:r>
            <a:r>
              <a:rPr b="0" lang="en-US" sz="2000" spc="-1" strike="noStrike">
                <a:solidFill>
                  <a:srgbClr val="000000"/>
                </a:solidFill>
                <a:latin typeface="Calibri"/>
              </a:rPr>
              <a:t> are responsible for the libraries/infrastructure you choose to use</a:t>
            </a:r>
            <a:endParaRPr b="0" lang="en-US" sz="2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07EC-6D58-4623-9311-AEAEACD97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 Web Bugs When Retrieving Embedded Conten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data formats  (e.g., HTML) can embed references to content that is automatically retrieved when the data is viewed (transclus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out waiting for user sele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cy issue –  enables “web bug” so others can obtain information about a reader without his knowledg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 web bu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ference intentionally inserted into a document and used by the content author to track who, where, and how often a document is read (e.g., 1x1 pixel “image” loaded from somewhere els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see how a “bugged” document is passed from one person to another or from one organization to anoth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n issue with file format design (can’t undo HTM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r users value their privacy, you probably will want to limit the automatic downloading of included files (e.g., from other sites)</a:t>
            </a:r>
            <a:endParaRPr b="0" lang="en-US" sz="22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2417-EBD6-45A3-8F93-01AE0039D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1)</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de sensitive information (e.g., private, personally-identifying information, password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ransit (input &amp; out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rest (stor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ransit – web-based applica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se https: (HTTP on top of SSL or T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to submit information – encoded in Request-URI, which is often logg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any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n’t help if attacker breaks into the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defend against someone who gets storage device without encryption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passwords (with salted hashes – explain later)</a:t>
            </a:r>
            <a:endParaRPr b="0" lang="en-US" sz="25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EE68-F314-4C8A-9753-E394FB98EA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2)</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send it, if you don’t hav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create special “local” ids when sending to other si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e ba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hard for external sites to reveal info about your users, data, etc.</a:t>
            </a:r>
            <a:endParaRPr b="0" lang="en-US" sz="28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6526-70EF-4595-9D70-FF60C4C27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information when it return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Reuse input filtering concepts from earlier…</a:t>
            </a:r>
            <a:r>
              <a:rPr b="0" lang="en-US" sz="3000" spc="-1" strike="noStrike">
                <a:solidFill>
                  <a:srgbClr val="000000"/>
                </a:solidFill>
                <a:latin typeface="Calibri"/>
              </a:rPr>
              <a:t> values from libraries are yet more inp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number: Is it within some plausible ran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tring: Does it match a whitelist filt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complex (e.g., file/data typ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t one of the permitted file/data type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n image (e.g., tile from geometry serv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ight/width in range? Is it really an image format?</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it takes too long to respond, consider alternativ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helpful in countering defects in components, even if it is not security issue</a:t>
            </a:r>
            <a:endParaRPr b="0" lang="en-US" sz="30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2F65-A76B-4EFB-B06A-99D374A34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ractice, must depend on other 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OS, DBMS, etc.</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how you call out to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in particular can cause trou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 command shell, filenames, log/debug entr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allow anything to be sent out unless you’ve checked to ensure it’s okay (whiteli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what you accept back</a:t>
            </a:r>
            <a:endParaRPr b="0" lang="en-US" sz="32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C6D6-1AB8-4FED-B4B6-A7E596F2D0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669C-227C-468E-AC30-61720DA4F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 call-outs to valid valu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any call out to another program only permits valid and expected values for every parame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libraries, daemons, remote server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more difficult than it sound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library calls or commands call other components in potentially surprising way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ways clearly document exactly what’s saf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ult: Need to be conservativ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problem: Metacharacters</a:t>
            </a:r>
            <a:endParaRPr b="0" lang="en-US" sz="26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7363-E2FE-47BF-931D-AE0E18B9E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characters = characters in an input that are not interpreted as data</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stead control how the </a:t>
            </a:r>
            <a:r>
              <a:rPr b="0" i="1" lang="en-US" sz="2200" spc="-1" strike="noStrike">
                <a:solidFill>
                  <a:srgbClr val="000000"/>
                </a:solidFill>
                <a:latin typeface="Calibri"/>
              </a:rPr>
              <a:t>other</a:t>
            </a:r>
            <a:r>
              <a:rPr b="0" lang="en-US" sz="2200" spc="-1" strike="noStrike">
                <a:solidFill>
                  <a:srgbClr val="000000"/>
                </a:solidFill>
                <a:latin typeface="Calibri"/>
              </a:rPr>
              <a:t> characters are interpret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commands, delimiters of data,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there's a language specification, it has metacharact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QL: the single-quote ' can begin/end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shell: $ can begin a parameter reference, e.g., $HOM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r program allows attackers to insert such metacharacters, don’t pass them on unescaped</a:t>
            </a:r>
            <a:endParaRPr b="0" lang="en-US" sz="25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DEA5-A23B-413C-A276-523A9C0B6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Getting Connected in Java</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java.sq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ExecuteSqlQuer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blic static void main(String[] arg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In real code, use try {…} catch () … to deal with database connection failure, etc.</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ring connectionURL = "jdbc:mysql://localhost:3306/mydatabas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oad JDBC driver for MySQL (for exampl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ass.forName("com.mysql.jdbc.Driver").newInstanc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nnect given connectionURL, username, passwor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nection connection = DriverManager.getConnection(connectionUR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oot", "root");  // What’s wrong with this password handling approach?</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tement statement = connection.createStatemen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Set rs = null;</a:t>
            </a:r>
            <a:endParaRPr b="0" lang="en-US" sz="1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A0D6-8E86-4638-9377-17D5408106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How to do it wrong</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User input search_lastnam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ring QueryString = "select * from authors where lastname = ' "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earch_lastname + " ' "; // data surrounded by single-quot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 = statement.executeQuery(QueryStr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ile (rs.nex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ystem.out.println(rs.getString(2) + "\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 eventually close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atement.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nnection.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FD82-E1D1-4D63-A861-82F9A90A9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74" name="Straight Arrow Connector 8"/>
          <p:cNvCxnSpPr/>
          <p:nvPr/>
        </p:nvCxnSpPr>
        <p:spPr>
          <a:xfrm flipV="1">
            <a:off x="6933960" y="2742480"/>
            <a:ext cx="1080" cy="1524600"/>
          </a:xfrm>
          <a:prstGeom prst="straightConnector1">
            <a:avLst/>
          </a:prstGeom>
          <a:ln w="50760">
            <a:solidFill>
              <a:srgbClr val="000000"/>
            </a:solidFill>
            <a:miter/>
            <a:tailEnd len="med" type="arrow" w="med"/>
          </a:ln>
        </p:spPr>
      </p:cxnSp>
      <p:cxnSp>
        <p:nvCxnSpPr>
          <p:cNvPr id="75" name="Straight Arrow Connector 10"/>
          <p:cNvCxnSpPr/>
          <p:nvPr/>
        </p:nvCxnSpPr>
        <p:spPr>
          <a:xfrm flipH="1" flipV="1">
            <a:off x="5790960" y="2971080"/>
            <a:ext cx="762480" cy="1143720"/>
          </a:xfrm>
          <a:prstGeom prst="straightConnector1">
            <a:avLst/>
          </a:prstGeom>
          <a:ln w="50760">
            <a:solidFill>
              <a:srgbClr val="000000"/>
            </a:solidFill>
            <a:miter/>
            <a:tailEnd len="med" type="arrow" w="med"/>
          </a:ln>
        </p:spPr>
      </p:cxnSp>
      <p:sp>
        <p:nvSpPr>
          <p:cNvPr id="76" name="Cloud 6"/>
          <p:cNvSpPr/>
          <p:nvPr/>
        </p:nvSpPr>
        <p:spPr>
          <a:xfrm>
            <a:off x="3429000" y="3886200"/>
            <a:ext cx="5334120" cy="281952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a:t>
            </a:r>
            <a:r>
              <a:rPr b="0" i="1" lang="en-US" sz="2200" spc="-1" strike="noStrike">
                <a:solidFill>
                  <a:srgbClr val="000000"/>
                </a:solidFill>
                <a:latin typeface="Calibri"/>
              </a:rPr>
              <a:t>string concatenation</a:t>
            </a:r>
            <a:r>
              <a:rPr b="0" lang="en-US" sz="2200" spc="-1" strike="noStrike">
                <a:solidFill>
                  <a:srgbClr val="000000"/>
                </a:solidFill>
                <a:latin typeface="Calibri"/>
              </a:rPr>
              <a:t>, followed by an </a:t>
            </a:r>
            <a:r>
              <a:rPr b="0" i="1" lang="en-US" sz="2200" spc="-1" strike="noStrike">
                <a:solidFill>
                  <a:srgbClr val="000000"/>
                </a:solidFill>
                <a:latin typeface="Calibri"/>
              </a:rPr>
              <a:t>execution</a:t>
            </a:r>
            <a:r>
              <a:rPr b="0" lang="en-US" sz="2200" spc="-1" strike="noStrike">
                <a:solidFill>
                  <a:srgbClr val="000000"/>
                </a:solidFill>
                <a:latin typeface="Calibri"/>
              </a:rPr>
              <a:t>, takes the untrusted user input data &amp; passes it directly to an interpr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Bad id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4-09-24T14:06:42Z</dcterms:modified>
  <cp:revision>451</cp:revision>
  <dc:subject>Secure Software Design &amp; Programming - Input Validation</dc:subject>
  <dc:title>SWE 781 / ISA 681 Secure Software Design &amp; Programming</dc:title>
</cp:coreProperties>
</file>